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2537-E1CD-419E-90EB-D48DDAB82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EA5B-D6AC-4C3A-9C94-150298D0B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B62D-C510-43DA-8D50-B09300795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784A-C254-4047-BCFF-2F3D54C8D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272F6-6791-4867-8FB8-71A0E4186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CD0C8-B21C-4E76-9E01-B76E0E6BB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00611-935D-439B-A452-3A5C1C7A5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9B97F-DCFA-4B82-AC22-8EC8A4398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780FC-464B-4DEC-A2D7-24617263F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5BB50-5BEE-488A-A26B-D90FDE305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22BD3-BFCB-4D72-A0AC-ED4CA3174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A889-FDD3-4519-858A-756B04277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D0F27-B839-40B7-8441-FDAC5BA89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25346-A87C-4719-BF51-F7F2D225F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43623-A8C4-47C3-9338-B52FE4548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1CE0C-0C40-490B-A0E2-EB2BC4276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DBB85-FD7D-44BC-9860-E16FE6CF9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5C74-8C54-4E0A-B3B4-8E0071D6A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BF51-263E-4D50-B4A1-9B01A9E14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648F-ABCD-46DC-ACD5-A3330D2E7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E93A-4716-4CC1-BA45-C1E173557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F972-4EAE-4A7E-911E-6248C1FDF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D1F1-7794-4F47-AA4E-1C63B18EB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14E0-6159-4777-B9D7-253A03B2B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pperplate Gothic Light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Light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pperplate Gothic Light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Light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pperplate Gothic Light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32715-625D-4E31-8E6B-CFBAE7751112}" type="slidenum">
              <a:rPr b="0" lang="en-US" sz="1400" spc="-1" strike="noStrike">
                <a:solidFill>
                  <a:srgbClr val="000000"/>
                </a:solidFill>
                <a:latin typeface="Copperplate Gothic Light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pperplate Gothic Light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pperplate Gothic Light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Light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pperplate Gothic Light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Light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pperplate Gothic Light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B3F18-5512-409E-B83B-D9DE63C48276}" type="slidenum">
              <a:rPr b="0" lang="en-US" sz="1400" spc="-1" strike="noStrike">
                <a:solidFill>
                  <a:srgbClr val="000000"/>
                </a:solidFill>
                <a:latin typeface="Copperplate Gothic Light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 Gothic Ligh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pperplate Gothic Light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pperplate Gothic Ligh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pperplate Gothic Light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pperplate Gothic Ligh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pperplate Gothic Light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pperplate Gothic Ligh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pperplate Gothic Light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pperplate Gothic Ligh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pperplate Gothic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pperplate Gothic Light"/>
              </a:rPr>
              <a:t>The 54th Massachusetts</a:t>
            </a:r>
            <a:endParaRPr b="1" lang="en-US" sz="5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514600" y="2819520"/>
            <a:ext cx="4352760" cy="324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Light"/>
              </a:rPr>
              <a:t>January 1, 1863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Lincoln issues the Emancipation Proclamation (frees slaves)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Black men throughout the north are encouraged to join the war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657600" y="4127400"/>
            <a:ext cx="2433600" cy="27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Light"/>
              </a:rPr>
              <a:t>Regiment’s leaders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All black army regiments were lead by white officers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Colonel Robert Gould Shaw became leader of the 54th Massachusetts in March 1863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Recruited men throughout Boston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 Gothic Light"/>
              </a:rPr>
              <a:t>Overwhelming positive response</a:t>
            </a:r>
            <a:endParaRPr b="0" lang="en-US" sz="24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 Gothic Light"/>
              </a:rPr>
              <a:t>Mainly educated, free black men</a:t>
            </a:r>
            <a:endParaRPr b="0" lang="en-US" sz="2400" spc="-1" strike="noStrike">
              <a:solidFill>
                <a:srgbClr val="000000"/>
              </a:solidFill>
              <a:latin typeface="Copperplate Gothic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Light"/>
              </a:rPr>
              <a:t>Southern Reaction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Jefferson Davis issues proclamation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 Gothic Light"/>
              </a:rPr>
              <a:t>All African American soldiers and any white officer leading them should be punished by death </a:t>
            </a:r>
            <a:endParaRPr b="0" lang="en-US" sz="2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648320" y="2781360"/>
            <a:ext cx="38098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Light"/>
              </a:rPr>
              <a:t>Tension within Regiment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 Gothic Light"/>
              </a:rPr>
              <a:t>Black soldiers were being paid $10 per month</a:t>
            </a:r>
            <a:endParaRPr b="0" lang="en-US" sz="24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pperplate Gothic Light"/>
              </a:rPr>
              <a:t>Then $3 was withheld for clothing</a:t>
            </a:r>
            <a:endParaRPr b="0" lang="en-US" sz="20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pperplate Gothic Light"/>
              </a:rPr>
              <a:t>This was NOT withheld from white soldiers</a:t>
            </a:r>
            <a:endParaRPr b="0" lang="en-US" sz="2000" spc="-1" strike="noStrike">
              <a:solidFill>
                <a:srgbClr val="000000"/>
              </a:solidFill>
              <a:latin typeface="Copperplate Gothic Light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 Gothic Light"/>
              </a:rPr>
              <a:t>Many members of the 54th Massachusetts frequently refused their pay in protest of the inequality</a:t>
            </a:r>
            <a:endParaRPr b="0" lang="en-US" sz="2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648320" y="2693880"/>
            <a:ext cx="3809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Light"/>
              </a:rPr>
              <a:t>Notable Fighting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Fort Wagner (July 18, 1863)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 Gothic Light"/>
              </a:rPr>
              <a:t>Charleston, SC</a:t>
            </a:r>
            <a:endParaRPr b="0" lang="en-US" sz="24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 Gothic Light"/>
              </a:rPr>
              <a:t>272 casualties</a:t>
            </a:r>
            <a:endParaRPr b="0" lang="en-US" sz="24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 Gothic Light"/>
              </a:rPr>
              <a:t>Colonel Shaw killed in action</a:t>
            </a:r>
            <a:endParaRPr b="0" lang="en-US" sz="24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 Gothic Light"/>
              </a:rPr>
              <a:t>Union unable to take over the fort</a:t>
            </a:r>
            <a:endParaRPr b="0" lang="en-US" sz="2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85800" y="2614680"/>
            <a:ext cx="3809880" cy="28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4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4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4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4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4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4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4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4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4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4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Light"/>
              </a:rPr>
              <a:t>Legacy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Word of the regiment’s bravery at Fort Wagner inspires black men to join the army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Lessens racial tension in the north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Colonel Shaw is buried with his men, all black, at Fort Wagner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William Harvey Carney awarded Medal of Honor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09480" y="3733560"/>
            <a:ext cx="7772400" cy="19810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 Gothic Light"/>
              </a:rPr>
              <a:t>1989</a:t>
            </a:r>
            <a:endParaRPr b="0" lang="en-US" sz="2400" spc="-1" strike="noStrike">
              <a:solidFill>
                <a:srgbClr val="000000"/>
              </a:solidFill>
              <a:latin typeface="Copperplate Gothic Light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 Gothic Ligh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pperplate Gothic Light"/>
              </a:rPr>
              <a:t>Their innocence. Their heritage. Their lives. Nothing would be spared in the fight for their freedom.”</a:t>
            </a:r>
            <a:endParaRPr b="0" lang="en-US" sz="2400" spc="-1" strike="noStrike">
              <a:solidFill>
                <a:srgbClr val="000000"/>
              </a:solidFill>
              <a:latin typeface="Copperplate Gothic Light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scars: Best Supporting Actor (Denzel), Best Cinematography, Best Sound</a:t>
            </a:r>
            <a:endParaRPr b="0" lang="en-US" sz="2400" spc="-1" strike="noStrike">
              <a:solidFill>
                <a:srgbClr val="000000"/>
              </a:solidFill>
              <a:latin typeface="Copperplate Gothic Light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ammys: Best Instrumental Composition for a Motion Picture</a:t>
            </a:r>
            <a:endParaRPr b="0" lang="en-US" sz="2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971800" y="228600"/>
            <a:ext cx="27367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77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5" dur="770" fill="hold"/>
                                        <p:tgtEl>
                                          <p:spTgt spid="1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7" dur="77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9" dur="77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4T00:21:25Z</dcterms:created>
  <dc:creator>Dave Moffa</dc:creator>
  <dc:description/>
  <dc:language>en-US</dc:language>
  <cp:lastModifiedBy>Dave Moffa</cp:lastModifiedBy>
  <dcterms:modified xsi:type="dcterms:W3CDTF">2011-03-15T02:50:00Z</dcterms:modified>
  <cp:revision>14</cp:revision>
  <dc:subject/>
  <dc:title>The 54th Massachusetts</dc:title>
</cp:coreProperties>
</file>